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F21-9ABD-47DE-9882-083C863D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E1B-70DF-4489-AD94-774CAF80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2AD-C735-4487-9477-404534A1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328-F465-4D60-B741-0F4B668F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6DA-71FE-4330-BF1B-E3A7D9C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D81-05A4-4CB5-BF7D-88DDCC8F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3A9-1AF5-49C1-B04D-922876B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B86-D038-4870-81B1-FB259389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AF8-4F0B-45C0-B12A-0BAF42A6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921-1E49-4698-A8B7-07C817B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AE5-873E-4B43-8434-E6F4E84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063-1FAE-447C-B1ED-3E4384A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3FB4-EEDB-4C2D-8E1F-D76B488080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cbi.nlm.nih.gov/Genomes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a molécule d’ADN au chromosome (et vice vers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er une banqu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er un logiciel de traitement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Arial"/>
              </a:rPr>
              <a:t>Après avoir vu la structure moléculaire de l’AD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Arial"/>
              </a:rPr>
              <a:t>Après avoir défini la notion de séquen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8000"/>
                </a:solidFill>
                <a:latin typeface="Arial"/>
              </a:rPr>
              <a:t>On cherche le rapport entre le petit fragment de 12 nucléotides étudié en 3D et le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8000"/>
                </a:solidFill>
                <a:latin typeface="Arial"/>
              </a:rPr>
              <a:t>Et on recherche ce qu’est un gène sur un chromoso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éri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8000"/>
                </a:solidFill>
                <a:latin typeface="Arial"/>
              </a:rPr>
              <a:t>Séquence complète du chromosome I de levure, imprimée, feuilles colées façon « listing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cc00"/>
                </a:solidFill>
                <a:latin typeface="Arial"/>
              </a:rPr>
              <a:t>Banque des séquences des 100 gènes du chromosom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8000"/>
                </a:solidFill>
                <a:latin typeface="Arial"/>
              </a:rPr>
              <a:t>Fichier .doc de la séquence complète du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t mé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Arial"/>
              </a:rPr>
              <a:t>Un gène est attribué à un groupe d’élè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8000"/>
                </a:solidFill>
                <a:latin typeface="Arial"/>
              </a:rPr>
              <a:t>Ils en recherche la position sur la séquence complète en utilisant la fonction « Rechercher » du traitement de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Arial"/>
              </a:rPr>
              <a:t>Et ils la surlignent sur le chromosome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plo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Arial"/>
              </a:rPr>
              <a:t>Taille d’un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8000"/>
                </a:solidFill>
                <a:latin typeface="Arial"/>
              </a:rPr>
              <a:t>Taille d’un gè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00"/>
                </a:solidFill>
                <a:latin typeface="Arial"/>
              </a:rPr>
              <a:t>Nombre de gènes pa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première : tous les gènes commencent par ATG ou bien finissent par CA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rtail Genomic Biology du NCBI :</a:t>
            </a:r>
            <a:br>
              <a:rPr sz="3200"/>
            </a:b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cbi.nlm.nih.gov/Genom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érêt du chromosome I de Lev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tit (230000 nucléotides contre 50Mbp pour le Chr 22 hum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 d’introns dans les gè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7:24:24Z</dcterms:created>
  <dc:creator>judith ciosi</dc:creator>
  <dc:description/>
  <dc:language>en-US</dc:language>
  <cp:lastModifiedBy>judith ciosi</cp:lastModifiedBy>
  <dcterms:modified xsi:type="dcterms:W3CDTF">2008-06-01T18:49:17Z</dcterms:modified>
  <cp:revision>2</cp:revision>
  <dc:subject/>
  <dc:title>De la molécule d’ADN au chromosome (et vice versa)</dc:title>
</cp:coreProperties>
</file>