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F612-737F-40CF-B3E9-A3EEC2AE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F4CB-6624-427C-8201-CBE91327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9B66-CD13-4FCC-8543-4B592A1A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0683-A90C-4855-B404-07959DEA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A6DB-82FB-4422-944C-6A9B49E3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11DA-C073-4381-B1CF-F4702F2E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334B-1C0E-45EB-AC9A-99AF9E9A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A0F0-4896-41F5-B875-2D3A1900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1C53-A19E-4C0C-8FFB-BA5C3EEF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7925-591D-497A-9674-8F59D268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2162-6D0F-4DFF-AF74-679C34AD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46F8-3B20-4C50-A321-65441B89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902E-68F6-4DDE-B755-F0C0EEE1B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reprise SOND’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.2. Observation et Analyse du Contex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24360" y="765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travail collaborati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ur de la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late-forme collabor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il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ils de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èg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i fixent le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ô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e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esponsabilité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t le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ro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 chac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us la responsabilité du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6093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r proposition de 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ef3a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te d’identité de l’entrepr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4525920"/>
          </a:xfrm>
          <a:prstGeom prst="rect">
            <a:avLst/>
          </a:prstGeom>
          <a:solidFill>
            <a:srgbClr val="fef3a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ill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f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19280" y="1600200"/>
            <a:ext cx="526716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omic Sans MS"/>
              </a:rPr>
              <a:t>SOND’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omic Sans MS"/>
              </a:rPr>
              <a:t>Effectif : 3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omic Sans MS"/>
              </a:rPr>
              <a:t>Récente (jeu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omic Sans MS"/>
              </a:rPr>
              <a:t>Rigueur et par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omic Sans MS"/>
              </a:rPr>
              <a:t>Réaliser des Etudes de march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omic Sans MS"/>
              </a:rPr>
              <a:t>Satisfaire les besoins du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omic Sans MS"/>
              </a:rPr>
              <a:t>Collaboration de 6 ag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ù est-elle situé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960720" cy="511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ù les agences SOND’OP sont-elles situé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ls sont les obstacles naturels qui les séparen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lles en sont les conséquenc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6200" y="2206800"/>
            <a:ext cx="19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gion Prov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234936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pes Côte- d’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2000" y="4508640"/>
            <a:ext cx="100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antation géograph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6697800" cy="7199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92720" y="6093000"/>
            <a:ext cx="719280" cy="765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6697800" cy="7199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19640" y="6021360"/>
            <a:ext cx="720720" cy="836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84720" y="3068640"/>
            <a:ext cx="71928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1773360"/>
            <a:ext cx="6494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3716280"/>
            <a:ext cx="71892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2852640"/>
            <a:ext cx="647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2924280"/>
            <a:ext cx="72072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628640"/>
            <a:ext cx="2016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si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loign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285264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moyens de communication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élèves vont citer ce qu’ils connaissent Par ex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Comic Sans MS"/>
              </a:rPr>
              <a:t>Messagerie (courriel, chat, forum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Comic Sans MS"/>
              </a:rPr>
              <a:t>Réseau social d’entreprise (RSE) : Facebook ou Via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Comic Sans MS"/>
              </a:rPr>
              <a:t>Site, agenda partagé, fichiers partagé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ile d’araignée des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697440" cy="5473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292720" y="6093000"/>
            <a:ext cx="719280" cy="765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403280" y="1557360"/>
            <a:ext cx="6697800" cy="5759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219640" y="6021360"/>
            <a:ext cx="720720" cy="836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3068640"/>
            <a:ext cx="71928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3280" y="1773360"/>
            <a:ext cx="6494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40360" y="3716280"/>
            <a:ext cx="71892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16360" y="2852640"/>
            <a:ext cx="647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2852640"/>
            <a:ext cx="72072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>
            <a:stCxn id="75" idx="4"/>
            <a:endCxn id="74" idx="3"/>
          </p:cNvCxnSpPr>
          <p:nvPr/>
        </p:nvCxnSpPr>
        <p:spPr>
          <a:xfrm flipH="1" rot="16200000">
            <a:off x="3368520" y="3515760"/>
            <a:ext cx="748440" cy="1005840"/>
          </a:xfrm>
          <a:prstGeom prst="curvedConnector5">
            <a:avLst>
              <a:gd name="adj1" fmla="val 145813"/>
              <a:gd name="adj2" fmla="val 49982"/>
              <a:gd name="adj3" fmla="val 1458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" name=""/>
          <p:cNvCxnSpPr>
            <a:stCxn id="74" idx="3"/>
            <a:endCxn id="71" idx="1"/>
          </p:cNvCxnSpPr>
          <p:nvPr/>
        </p:nvCxnSpPr>
        <p:spPr>
          <a:xfrm flipH="1" rot="16200000">
            <a:off x="3909240" y="4728240"/>
            <a:ext cx="1751760" cy="1080000"/>
          </a:xfrm>
          <a:prstGeom prst="curvedConnector5">
            <a:avLst>
              <a:gd name="adj1" fmla="val 49763"/>
              <a:gd name="adj2" fmla="val 49983"/>
              <a:gd name="adj3" fmla="val 4976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" name=""/>
          <p:cNvCxnSpPr>
            <a:stCxn id="75" idx="7"/>
            <a:endCxn id="76" idx="0"/>
          </p:cNvCxnSpPr>
          <p:nvPr/>
        </p:nvCxnSpPr>
        <p:spPr>
          <a:xfrm flipH="1" flipV="1" rot="5400000">
            <a:off x="4142160" y="2178360"/>
            <a:ext cx="116640" cy="1464480"/>
          </a:xfrm>
          <a:prstGeom prst="curvedConnector5">
            <a:avLst>
              <a:gd name="adj1" fmla="val 297213"/>
              <a:gd name="adj2" fmla="val 49987"/>
              <a:gd name="adj3" fmla="val 2972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" name=""/>
          <p:cNvCxnSpPr>
            <a:stCxn id="75" idx="7"/>
            <a:endCxn id="73" idx="2"/>
          </p:cNvCxnSpPr>
          <p:nvPr/>
        </p:nvCxnSpPr>
        <p:spPr>
          <a:xfrm flipH="1" flipV="1" rot="5400000">
            <a:off x="3638160" y="1963080"/>
            <a:ext cx="835560" cy="11754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" name=""/>
          <p:cNvCxnSpPr>
            <a:stCxn id="75" idx="6"/>
            <a:endCxn id="76" idx="2"/>
          </p:cNvCxnSpPr>
          <p:nvPr/>
        </p:nvCxnSpPr>
        <p:spPr>
          <a:xfrm>
            <a:off x="3564000" y="3249360"/>
            <a:ext cx="10087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" name=""/>
          <p:cNvCxnSpPr>
            <a:stCxn id="75" idx="5"/>
            <a:endCxn id="72" idx="3"/>
          </p:cNvCxnSpPr>
          <p:nvPr/>
        </p:nvCxnSpPr>
        <p:spPr>
          <a:xfrm flipH="1" rot="16200000">
            <a:off x="4658040" y="2337840"/>
            <a:ext cx="340200" cy="2721600"/>
          </a:xfrm>
          <a:prstGeom prst="curvedConnector5">
            <a:avLst>
              <a:gd name="adj1" fmla="val 207415"/>
              <a:gd name="adj2" fmla="val 49993"/>
              <a:gd name="adj3" fmla="val 207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73" idx="6"/>
            <a:endCxn id="72" idx="1"/>
          </p:cNvCxnSpPr>
          <p:nvPr/>
        </p:nvCxnSpPr>
        <p:spPr>
          <a:xfrm>
            <a:off x="5292720" y="2133720"/>
            <a:ext cx="897840" cy="107208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76" idx="6"/>
            <a:endCxn id="72" idx="2"/>
          </p:cNvCxnSpPr>
          <p:nvPr/>
        </p:nvCxnSpPr>
        <p:spPr>
          <a:xfrm>
            <a:off x="5292720" y="3249720"/>
            <a:ext cx="792720" cy="288000"/>
          </a:xfrm>
          <a:prstGeom prst="curvedConnector5">
            <a:avLst>
              <a:gd name="adj1" fmla="val 49886"/>
              <a:gd name="adj2" fmla="val 49937"/>
              <a:gd name="adj3" fmla="val 498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73" idx="5"/>
            <a:endCxn id="71" idx="7"/>
          </p:cNvCxnSpPr>
          <p:nvPr/>
        </p:nvCxnSpPr>
        <p:spPr>
          <a:xfrm flipH="1" rot="16200000">
            <a:off x="3638160" y="3947040"/>
            <a:ext cx="3755160" cy="639000"/>
          </a:xfrm>
          <a:prstGeom prst="curvedConnector5">
            <a:avLst>
              <a:gd name="adj1" fmla="val 49760"/>
              <a:gd name="adj2" fmla="val 50000"/>
              <a:gd name="adj3" fmla="val 497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3" idx="4"/>
            <a:endCxn id="76" idx="7"/>
          </p:cNvCxnSpPr>
          <p:nvPr/>
        </p:nvCxnSpPr>
        <p:spPr>
          <a:xfrm flipH="1" rot="16200000">
            <a:off x="4840200" y="2621520"/>
            <a:ext cx="475200" cy="219960"/>
          </a:xfrm>
          <a:prstGeom prst="curvedConnector5">
            <a:avLst>
              <a:gd name="adj1" fmla="val 37755"/>
              <a:gd name="adj2" fmla="val 50000"/>
              <a:gd name="adj3" fmla="val 3775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73" idx="3"/>
            <a:endCxn id="74" idx="0"/>
          </p:cNvCxnSpPr>
          <p:nvPr/>
        </p:nvCxnSpPr>
        <p:spPr>
          <a:xfrm rot="5400000">
            <a:off x="3955320" y="2933640"/>
            <a:ext cx="1327680" cy="238680"/>
          </a:xfrm>
          <a:prstGeom prst="curvedConnector5">
            <a:avLst>
              <a:gd name="adj1" fmla="val 53946"/>
              <a:gd name="adj2" fmla="val 50000"/>
              <a:gd name="adj3" fmla="val 5394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76" idx="4"/>
            <a:endCxn id="71" idx="0"/>
          </p:cNvCxnSpPr>
          <p:nvPr/>
        </p:nvCxnSpPr>
        <p:spPr>
          <a:xfrm flipH="1" rot="16200000">
            <a:off x="4066920" y="4509000"/>
            <a:ext cx="2377080" cy="64836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72" idx="4"/>
            <a:endCxn id="71" idx="7"/>
          </p:cNvCxnSpPr>
          <p:nvPr/>
        </p:nvCxnSpPr>
        <p:spPr>
          <a:xfrm rot="5400000">
            <a:off x="5070240" y="4769640"/>
            <a:ext cx="2139120" cy="610200"/>
          </a:xfrm>
          <a:prstGeom prst="curvedConnector5">
            <a:avLst>
              <a:gd name="adj1" fmla="val 47130"/>
              <a:gd name="adj2" fmla="val 50000"/>
              <a:gd name="adj3" fmla="val 4713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l est le mode de fonctionnement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30 collaborateurs partagen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es mêmes val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a même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es mêmes o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 répondre à des objectifs comm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ur : 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quipe soud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éativité et par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140360" y="1268280"/>
            <a:ext cx="4495320" cy="4514760"/>
            <a:chOff x="4140360" y="1268280"/>
            <a:chExt cx="4495320" cy="4514760"/>
          </a:xfrm>
        </p:grpSpPr>
        <p:sp>
          <p:nvSpPr>
            <p:cNvPr id="95" name="Puzzle3"/>
            <p:cNvSpPr/>
            <p:nvPr/>
          </p:nvSpPr>
          <p:spPr>
            <a:xfrm>
              <a:off x="6329520" y="1268280"/>
              <a:ext cx="1766880" cy="239940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Puzzle2"/>
            <p:cNvSpPr/>
            <p:nvPr/>
          </p:nvSpPr>
          <p:spPr>
            <a:xfrm>
              <a:off x="5815440" y="3016080"/>
              <a:ext cx="2820240" cy="21852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Puzzle4"/>
            <p:cNvSpPr/>
            <p:nvPr/>
          </p:nvSpPr>
          <p:spPr>
            <a:xfrm>
              <a:off x="4723920" y="2989080"/>
              <a:ext cx="170028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Puzzle1"/>
            <p:cNvSpPr/>
            <p:nvPr/>
          </p:nvSpPr>
          <p:spPr>
            <a:xfrm>
              <a:off x="4140360" y="1994040"/>
              <a:ext cx="285552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sation collaborativ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740680" y="1486800"/>
            <a:ext cx="3591000" cy="4816800"/>
            <a:chOff x="2740680" y="1486800"/>
            <a:chExt cx="3591000" cy="4816800"/>
          </a:xfrm>
        </p:grpSpPr>
        <p:sp>
          <p:nvSpPr>
            <p:cNvPr id="101" name="_s12294"/>
            <p:cNvSpPr/>
            <p:nvPr/>
          </p:nvSpPr>
          <p:spPr>
            <a:xfrm flipV="1">
              <a:off x="4536360" y="2691720"/>
              <a:ext cx="0" cy="60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2295"/>
            <p:cNvSpPr/>
            <p:nvPr/>
          </p:nvSpPr>
          <p:spPr>
            <a:xfrm>
              <a:off x="4037040" y="1486800"/>
              <a:ext cx="997920" cy="120456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2296"/>
            <p:cNvSpPr/>
            <p:nvPr/>
          </p:nvSpPr>
          <p:spPr>
            <a:xfrm flipV="1">
              <a:off x="4968000" y="3292200"/>
              <a:ext cx="431280" cy="30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2297"/>
            <p:cNvSpPr/>
            <p:nvPr/>
          </p:nvSpPr>
          <p:spPr>
            <a:xfrm>
              <a:off x="5333400" y="2388240"/>
              <a:ext cx="998280" cy="120456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2298"/>
            <p:cNvSpPr/>
            <p:nvPr/>
          </p:nvSpPr>
          <p:spPr>
            <a:xfrm>
              <a:off x="4969440" y="4195440"/>
              <a:ext cx="431640" cy="29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2299"/>
            <p:cNvSpPr/>
            <p:nvPr/>
          </p:nvSpPr>
          <p:spPr>
            <a:xfrm>
              <a:off x="5333400" y="4195440"/>
              <a:ext cx="998280" cy="120456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2300"/>
            <p:cNvSpPr/>
            <p:nvPr/>
          </p:nvSpPr>
          <p:spPr>
            <a:xfrm>
              <a:off x="4537440" y="4498560"/>
              <a:ext cx="0" cy="60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2301"/>
            <p:cNvSpPr/>
            <p:nvPr/>
          </p:nvSpPr>
          <p:spPr>
            <a:xfrm>
              <a:off x="4037040" y="5099400"/>
              <a:ext cx="997920" cy="120420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2308"/>
            <p:cNvSpPr/>
            <p:nvPr/>
          </p:nvSpPr>
          <p:spPr>
            <a:xfrm flipH="1">
              <a:off x="3673080" y="4197240"/>
              <a:ext cx="431280" cy="30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2307"/>
            <p:cNvSpPr/>
            <p:nvPr/>
          </p:nvSpPr>
          <p:spPr>
            <a:xfrm>
              <a:off x="2740680" y="4195440"/>
              <a:ext cx="998280" cy="120456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2302"/>
            <p:cNvSpPr/>
            <p:nvPr/>
          </p:nvSpPr>
          <p:spPr>
            <a:xfrm flipH="1" flipV="1">
              <a:off x="3670920" y="3294000"/>
              <a:ext cx="431640" cy="30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2303"/>
            <p:cNvSpPr/>
            <p:nvPr/>
          </p:nvSpPr>
          <p:spPr>
            <a:xfrm>
              <a:off x="2740680" y="2388240"/>
              <a:ext cx="998280" cy="120456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2304"/>
            <p:cNvSpPr/>
            <p:nvPr/>
          </p:nvSpPr>
          <p:spPr>
            <a:xfrm>
              <a:off x="4037040" y="3294000"/>
              <a:ext cx="997920" cy="12045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late form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llaboratif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15:22:16Z</dcterms:created>
  <dc:creator>Monique</dc:creator>
  <dc:description/>
  <dc:language>en-US</dc:language>
  <cp:lastModifiedBy>Monique</cp:lastModifiedBy>
  <dcterms:modified xsi:type="dcterms:W3CDTF">2012-06-04T07:25:31Z</dcterms:modified>
  <cp:revision>11</cp:revision>
  <dc:subject/>
  <dc:title>Entreprise SOND’OP</dc:title>
</cp:coreProperties>
</file>